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805B-5470-4745-B26C-CB05E45B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98E2-A951-4DC3-A2ED-3EE4BC6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A399-1F84-4728-8340-17C0BB6C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1A75-E9DC-4F33-A736-18C1F87B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0BDE-31EF-40AC-AD78-7BAC3E91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4A54-13AD-41C4-849D-8F18804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A07F-1AD7-4ACA-972A-5A993E8C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11F1-6525-40D7-8577-44949F4F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4013-0868-48E7-8491-E28F9FE5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E5D3-5D14-4612-9A23-3F75806F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E453-ACC5-4648-9203-42CE27D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6549-E453-4A40-9683-707C957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A103-68EB-4AFB-8F73-33A8CDA2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E3DC-1BA7-447B-8244-9FD16ED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727-B602-40A2-9BDB-B805D1D7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7DD-48B8-44E8-AE4D-7F1076A5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E9F-5BD4-4B0E-9F52-BE8124C3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185B-F083-4982-98D6-4AEB4D5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29B1-3A1F-4E57-834C-30BB01E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E18A-2540-409A-8562-1FDCA29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09CD-9FD1-4639-A9B5-4FC7733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D714-FECC-4B86-81E6-4CF8F4F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8086-50FA-47A0-B919-BF3E52AD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B80A-ACF8-4855-92C7-02A10001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68C8-6F5C-485C-92FE-4E2C71E736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3C91-7A96-406C-8BC0-ED0EEC943F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лектролиз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4"/>
          <p:cNvPicPr/>
          <p:nvPr/>
        </p:nvPicPr>
        <p:blipFill>
          <a:blip r:embed="rId1"/>
          <a:stretch/>
        </p:blipFill>
        <p:spPr>
          <a:xfrm>
            <a:off x="533520" y="41529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pannung_5"/>
          <p:cNvPicPr/>
          <p:nvPr/>
        </p:nvPicPr>
        <p:blipFill>
          <a:blip r:embed="rId2"/>
          <a:stretch/>
        </p:blipFill>
        <p:spPr>
          <a:xfrm>
            <a:off x="6553080" y="152280"/>
            <a:ext cx="2352960" cy="19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pannung_2"/>
          <p:cNvPicPr/>
          <p:nvPr/>
        </p:nvPicPr>
        <p:blipFill>
          <a:blip r:embed="rId3"/>
          <a:stretch/>
        </p:blipFill>
        <p:spPr>
          <a:xfrm>
            <a:off x="6962760" y="3962520"/>
            <a:ext cx="200016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brownlee"/>
          <p:cNvPicPr/>
          <p:nvPr/>
        </p:nvPicPr>
        <p:blipFill>
          <a:blip r:embed="rId4"/>
          <a:stretch/>
        </p:blipFill>
        <p:spPr>
          <a:xfrm>
            <a:off x="4800600" y="4876920"/>
            <a:ext cx="1477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kevin2-sm"/>
          <p:cNvPicPr/>
          <p:nvPr/>
        </p:nvPicPr>
        <p:blipFill>
          <a:blip r:embed="rId5"/>
          <a:stretch/>
        </p:blipFill>
        <p:spPr>
          <a:xfrm>
            <a:off x="152280" y="228600"/>
            <a:ext cx="15703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рытие металлов слоем другого металла при помощи электролиза (гальваностеги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image486"/>
          <p:cNvPicPr/>
          <p:nvPr/>
        </p:nvPicPr>
        <p:blipFill>
          <a:blip r:embed="rId1"/>
          <a:stretch/>
        </p:blipFill>
        <p:spPr>
          <a:xfrm>
            <a:off x="533520" y="19810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учение копий с предметов при помощи электролиза (гальванопластика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афинирование (очистка) мет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age490"/>
          <p:cNvPicPr/>
          <p:nvPr/>
        </p:nvPicPr>
        <p:blipFill>
          <a:blip r:embed="rId1"/>
          <a:stretch/>
        </p:blipFill>
        <p:spPr>
          <a:xfrm>
            <a:off x="0" y="1905120"/>
            <a:ext cx="85345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4876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тическое изображение электрохимической ячейки для исследования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250px-ElectrochemCell"/>
          <p:cNvPicPr/>
          <p:nvPr/>
        </p:nvPicPr>
        <p:blipFill>
          <a:blip r:embed="rId1"/>
          <a:stretch/>
        </p:blipFill>
        <p:spPr>
          <a:xfrm>
            <a:off x="762120" y="457200"/>
            <a:ext cx="8153280" cy="424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2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3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8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9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0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1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4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0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4275000" y="1773360"/>
            <a:ext cx="432000" cy="43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4716360" y="5830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фра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 flipH="1" flipV="1">
            <a:off x="4642920" y="5734080"/>
            <a:ext cx="2890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 flipV="1">
            <a:off x="1619280" y="18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1619280" y="1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0"/>
          <p:cNvSpPr/>
          <p:nvPr/>
        </p:nvSpPr>
        <p:spPr>
          <a:xfrm>
            <a:off x="2484360" y="11592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58"/>
              <p:cNvSpPr txBox="1"/>
              <p:nvPr/>
            </p:nvSpPr>
            <p:spPr>
              <a:xfrm>
                <a:off x="2627280" y="0"/>
                <a:ext cx="2667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5" name="Text Box 53"/>
          <p:cNvSpPr/>
          <p:nvPr/>
        </p:nvSpPr>
        <p:spPr>
          <a:xfrm>
            <a:off x="2268360" y="6308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    +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 flipH="1" flipV="1">
            <a:off x="2957760" y="5850720"/>
            <a:ext cx="938520" cy="52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8"/>
          <p:cNvSpPr/>
          <p:nvPr/>
        </p:nvSpPr>
        <p:spPr>
          <a:xfrm flipV="1">
            <a:off x="5093640" y="5976000"/>
            <a:ext cx="1190160" cy="45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9"/>
          <p:cNvSpPr/>
          <p:nvPr/>
        </p:nvSpPr>
        <p:spPr>
          <a:xfrm>
            <a:off x="3995640" y="638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0"/>
          <p:cNvSpPr/>
          <p:nvPr/>
        </p:nvSpPr>
        <p:spPr>
          <a:xfrm>
            <a:off x="493236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1"/>
          <p:cNvSpPr/>
          <p:nvPr/>
        </p:nvSpPr>
        <p:spPr>
          <a:xfrm>
            <a:off x="500364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240" y="5943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электролиза расплава 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5-12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5-13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zn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33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e1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оли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e3"/>
          <p:cNvPicPr/>
          <p:nvPr/>
        </p:nvPicPr>
        <p:blipFill>
          <a:blip r:embed="rId2"/>
          <a:stretch/>
        </p:blipFill>
        <p:spPr>
          <a:xfrm>
            <a:off x="3962520" y="1523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e2"/>
          <p:cNvPicPr/>
          <p:nvPr/>
        </p:nvPicPr>
        <p:blipFill>
          <a:blip r:embed="rId3"/>
          <a:stretch/>
        </p:blipFill>
        <p:spPr>
          <a:xfrm>
            <a:off x="30492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e4"/>
          <p:cNvPicPr/>
          <p:nvPr/>
        </p:nvPicPr>
        <p:blipFill>
          <a:blip r:embed="rId4"/>
          <a:stretch/>
        </p:blipFill>
        <p:spPr>
          <a:xfrm>
            <a:off x="3962520" y="4114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91"/>
              <p:cNvSpPr txBox="1"/>
              <p:nvPr/>
            </p:nvSpPr>
            <p:spPr>
              <a:xfrm>
                <a:off x="6492960" y="2583000"/>
                <a:ext cx="3412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2"/>
              <p:cNvSpPr txBox="1"/>
              <p:nvPr/>
            </p:nvSpPr>
            <p:spPr>
              <a:xfrm>
                <a:off x="3998880" y="2209680"/>
                <a:ext cx="716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2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5"/>
          <p:cNvSpPr/>
          <p:nvPr/>
        </p:nvSpPr>
        <p:spPr>
          <a:xfrm>
            <a:off x="2716200" y="42894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3"/>
              <p:cNvSpPr txBox="1"/>
              <p:nvPr/>
            </p:nvSpPr>
            <p:spPr>
              <a:xfrm>
                <a:off x="4572000" y="292428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94"/>
              <p:cNvSpPr txBox="1"/>
              <p:nvPr/>
            </p:nvSpPr>
            <p:spPr>
              <a:xfrm>
                <a:off x="4572000" y="400536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5"/>
              <p:cNvSpPr txBox="1"/>
              <p:nvPr/>
            </p:nvSpPr>
            <p:spPr>
              <a:xfrm>
                <a:off x="3995640" y="3618000"/>
                <a:ext cx="720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" name="Group 72"/>
          <p:cNvGrpSpPr/>
          <p:nvPr/>
        </p:nvGrpSpPr>
        <p:grpSpPr>
          <a:xfrm>
            <a:off x="3059280" y="4869000"/>
            <a:ext cx="444240" cy="369720"/>
            <a:chOff x="3059280" y="486900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3" name="Object 96"/>
                <p:cNvSpPr txBox="1"/>
                <p:nvPr/>
              </p:nvSpPr>
              <p:spPr>
                <a:xfrm>
                  <a:off x="3059280" y="486900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4" name="Group 65"/>
            <p:cNvGrpSpPr/>
            <p:nvPr/>
          </p:nvGrpSpPr>
          <p:grpSpPr>
            <a:xfrm>
              <a:off x="3347640" y="4881600"/>
              <a:ext cx="144360" cy="169920"/>
              <a:chOff x="3347640" y="4881600"/>
              <a:chExt cx="144360" cy="169920"/>
            </a:xfrm>
          </p:grpSpPr>
          <p:sp>
            <p:nvSpPr>
              <p:cNvPr id="375" name="Line 66"/>
              <p:cNvSpPr/>
              <p:nvPr/>
            </p:nvSpPr>
            <p:spPr>
              <a:xfrm flipH="1">
                <a:off x="3347640" y="495468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67"/>
              <p:cNvSpPr/>
              <p:nvPr/>
            </p:nvSpPr>
            <p:spPr>
              <a:xfrm>
                <a:off x="3428640" y="488160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71"/>
          <p:cNvGrpSpPr/>
          <p:nvPr/>
        </p:nvGrpSpPr>
        <p:grpSpPr>
          <a:xfrm>
            <a:off x="3048120" y="3130560"/>
            <a:ext cx="444240" cy="369720"/>
            <a:chOff x="3048120" y="313056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8" name="Object 97"/>
                <p:cNvSpPr txBox="1"/>
                <p:nvPr/>
              </p:nvSpPr>
              <p:spPr>
                <a:xfrm>
                  <a:off x="3048120" y="313056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9" name="Group 68"/>
            <p:cNvGrpSpPr/>
            <p:nvPr/>
          </p:nvGrpSpPr>
          <p:grpSpPr>
            <a:xfrm>
              <a:off x="3335040" y="3166920"/>
              <a:ext cx="144360" cy="169920"/>
              <a:chOff x="3335040" y="3166920"/>
              <a:chExt cx="144360" cy="169920"/>
            </a:xfrm>
          </p:grpSpPr>
          <p:sp>
            <p:nvSpPr>
              <p:cNvPr id="380" name="Line 69"/>
              <p:cNvSpPr/>
              <p:nvPr/>
            </p:nvSpPr>
            <p:spPr>
              <a:xfrm flipH="1">
                <a:off x="3335040" y="324000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70"/>
              <p:cNvSpPr/>
              <p:nvPr/>
            </p:nvSpPr>
            <p:spPr>
              <a:xfrm>
                <a:off x="3416040" y="316692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98"/>
              <p:cNvSpPr txBox="1"/>
              <p:nvPr/>
            </p:nvSpPr>
            <p:spPr>
              <a:xfrm>
                <a:off x="3025800" y="2133720"/>
                <a:ext cx="576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7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99"/>
              <p:cNvSpPr txBox="1"/>
              <p:nvPr/>
            </p:nvSpPr>
            <p:spPr>
              <a:xfrm>
                <a:off x="3059280" y="3987720"/>
                <a:ext cx="57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77"/>
          <p:cNvSpPr/>
          <p:nvPr/>
        </p:nvSpPr>
        <p:spPr>
          <a:xfrm flipH="1">
            <a:off x="2987280" y="220500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8"/>
          <p:cNvSpPr/>
          <p:nvPr/>
        </p:nvSpPr>
        <p:spPr>
          <a:xfrm flipH="1">
            <a:off x="2987280" y="400536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0"/>
              <p:cNvSpPr txBox="1"/>
              <p:nvPr/>
            </p:nvSpPr>
            <p:spPr>
              <a:xfrm>
                <a:off x="2987640" y="2708280"/>
                <a:ext cx="636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1"/>
              <p:cNvSpPr txBox="1"/>
              <p:nvPr/>
            </p:nvSpPr>
            <p:spPr>
              <a:xfrm>
                <a:off x="2987640" y="4221000"/>
                <a:ext cx="636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8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2"/>
              <p:cNvSpPr txBox="1"/>
              <p:nvPr/>
            </p:nvSpPr>
            <p:spPr>
              <a:xfrm>
                <a:off x="2987640" y="5661000"/>
                <a:ext cx="459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2" name="Group 83"/>
          <p:cNvGrpSpPr/>
          <p:nvPr/>
        </p:nvGrpSpPr>
        <p:grpSpPr>
          <a:xfrm>
            <a:off x="5940360" y="4797360"/>
            <a:ext cx="647640" cy="647640"/>
            <a:chOff x="5940360" y="4797360"/>
            <a:chExt cx="647640" cy="647640"/>
          </a:xfrm>
        </p:grpSpPr>
        <p:sp>
          <p:nvSpPr>
            <p:cNvPr id="393" name="Oval 84"/>
            <p:cNvSpPr/>
            <p:nvPr/>
          </p:nvSpPr>
          <p:spPr>
            <a:xfrm>
              <a:off x="5940360" y="479736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5"/>
            <p:cNvSpPr/>
            <p:nvPr/>
          </p:nvSpPr>
          <p:spPr>
            <a:xfrm>
              <a:off x="6013440" y="49399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86"/>
          <p:cNvGrpSpPr/>
          <p:nvPr/>
        </p:nvGrpSpPr>
        <p:grpSpPr>
          <a:xfrm>
            <a:off x="5940360" y="3716280"/>
            <a:ext cx="647640" cy="647640"/>
            <a:chOff x="5940360" y="3716280"/>
            <a:chExt cx="647640" cy="647640"/>
          </a:xfrm>
        </p:grpSpPr>
        <p:sp>
          <p:nvSpPr>
            <p:cNvPr id="396" name="Oval 87"/>
            <p:cNvSpPr/>
            <p:nvPr/>
          </p:nvSpPr>
          <p:spPr>
            <a:xfrm>
              <a:off x="5940360" y="371628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8"/>
            <p:cNvSpPr/>
            <p:nvPr/>
          </p:nvSpPr>
          <p:spPr>
            <a:xfrm>
              <a:off x="6013440" y="38588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278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0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9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3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C -0.05052 0.02731 -0.10052 0.05463 -0.12517 0.06111 C -0.14965 0.06759 -0.14236 0.04259 -0.14705 0.03889 E">
                                      <p:cBhvr>
                                        <p:cTn id="286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5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-0.05052 0.02731 -0.10052 0.05463 -0.12517 0.06111 C -0.14965 0.06759 -0.14236 0.04259 -0.14705 0.03888 E">
                                      <p:cBhvr>
                                        <p:cTn id="289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55 C -0.00695 0.00069 -0.00851 -0.01389 -0.01355 -0.01968 C -0.01858 -0.02547 -0.02726 -0.02269 -0.03577 -0.01968 E">
                                      <p:cBhvr>
                                        <p:cTn id="305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0116 C -0.01129 0.01782 -0.01979 0.03703 -0.02622 0.03403 C -0.03264 0.03102 -0.03715 0.00555 -0.04149 -0.01968 E">
                                      <p:cBhvr>
                                        <p:cTn id="308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C 0.01614 -0.01644 0.03246 -0.03264 0.05278 -0.03334 C 0.07309 -0.03403 0.10625 -0.00162 0.12222 -0.00371 C 0.13819 -0.00579 0.1434 -0.02616 0.14861 -0.0463 E">
                                      <p:cBhvr>
                                        <p:cTn id="318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33333E-006 C 0.01181 -0.01435 0.02362 -0.0287 0.04168 -0.02963 C 0.05973 -0.03056 0.09115 -0.00185 0.10834 -0.00556 C 0.12553 -0.00926 0.1349 -0.03056 0.14445 -0.05185 E">
                                      <p:cBhvr>
                                        <p:cTn id="320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3.7037E-007 C 0.01771 -0.01621 0.03541 -0.03241 0.04583 -0.06111 C 0.05625 -0.08982 0.05781 -0.12685 0.0625 -0.17222 C 0.06719 -0.2176 0.07083 -0.28496 0.07361 -0.33334 C 0.07639 -0.38172 0.07916 -0.43033 0.07916 -0.46297 C 0.07916 -0.4956 0.07083 -0.50764 0.07361 -0.52963 C 0.07639 -0.55162 0.08611 -0.57315 0.09583 -0.59445 E">
                                      <p:cBhvr>
                                        <p:cTn id="324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0.00278 C -0.02101 0.0088 -0.00972 0.01505 -0.00156 0.01759 C 0.0066 0.02014 0.01146 0.01875 0.01649 0.01759 E">
                                      <p:cBhvr>
                                        <p:cTn id="33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C 0.01042 0.00764 0.02084 0.01551 0.02917 0.01667 C 0.0375 0.01782 0.04375 0.0125 0.05 0.00741 E">
                                      <p:cBhvr>
                                        <p:cTn id="334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14815E-006 C -0.04271 0.02268 -0.08524 0.0456 -0.10556 0.02962 C -0.12587 0.01365 -0.12639 -0.06297 -0.12222 -0.0963 C -0.11806 -0.12964 -0.09931 -0.15001 -0.08056 -0.17038 E">
                                      <p:cBhvr>
                                        <p:cTn id="343" dur="3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-0.17037 L -0.08056 -0.24375 E">
                                      <p:cBhvr>
                                        <p:cTn id="34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7 -0.24144 L 0.13003 -0.24144 E">
                                      <p:cBhvr>
                                        <p:cTn id="35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354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35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3"/>
              <p:cNvSpPr txBox="1"/>
              <p:nvPr/>
            </p:nvSpPr>
            <p:spPr>
              <a:xfrm>
                <a:off x="1932120" y="260280"/>
                <a:ext cx="4484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1" name="Line 8"/>
          <p:cNvSpPr/>
          <p:nvPr/>
        </p:nvSpPr>
        <p:spPr>
          <a:xfrm flipH="1">
            <a:off x="3360600" y="836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5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55"/>
              <p:cNvSpPr txBox="1"/>
              <p:nvPr/>
            </p:nvSpPr>
            <p:spPr>
              <a:xfrm>
                <a:off x="1835280" y="981000"/>
                <a:ext cx="4681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4" name="Line 11"/>
          <p:cNvSpPr/>
          <p:nvPr/>
        </p:nvSpPr>
        <p:spPr>
          <a:xfrm flipH="1">
            <a:off x="3346560" y="155736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2"/>
          <p:cNvSpPr/>
          <p:nvPr/>
        </p:nvSpPr>
        <p:spPr>
          <a:xfrm flipH="1">
            <a:off x="3995280" y="900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3"/>
          <p:cNvSpPr/>
          <p:nvPr/>
        </p:nvSpPr>
        <p:spPr>
          <a:xfrm flipH="1">
            <a:off x="3779640" y="892080"/>
            <a:ext cx="215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4"/>
          <p:cNvSpPr/>
          <p:nvPr/>
        </p:nvSpPr>
        <p:spPr>
          <a:xfrm flipH="1">
            <a:off x="1332000" y="1687680"/>
            <a:ext cx="2448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 flipH="1">
            <a:off x="4067280" y="155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3924000" y="1557360"/>
            <a:ext cx="1429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268360" y="1844640"/>
            <a:ext cx="165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435640" y="9079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6443640" y="907920"/>
            <a:ext cx="129708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5292720" y="1557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6227640" y="1557360"/>
            <a:ext cx="100836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498240" y="24210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(-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сстано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6659640" y="242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+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6"/>
              <p:cNvSpPr txBox="1"/>
              <p:nvPr/>
            </p:nvSpPr>
            <p:spPr>
              <a:xfrm>
                <a:off x="539640" y="2852640"/>
                <a:ext cx="241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7"/>
              <p:cNvSpPr txBox="1"/>
              <p:nvPr/>
            </p:nvSpPr>
            <p:spPr>
              <a:xfrm>
                <a:off x="5003640" y="2924280"/>
                <a:ext cx="365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8"/>
              <p:cNvSpPr txBox="1"/>
              <p:nvPr/>
            </p:nvSpPr>
            <p:spPr>
              <a:xfrm>
                <a:off x="1187280" y="3500280"/>
                <a:ext cx="230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Line 30"/>
          <p:cNvSpPr/>
          <p:nvPr/>
        </p:nvSpPr>
        <p:spPr>
          <a:xfrm>
            <a:off x="1192320" y="34974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42116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898560" y="369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178160" y="3492360"/>
            <a:ext cx="57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44402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9"/>
              <p:cNvSpPr txBox="1"/>
              <p:nvPr/>
            </p:nvSpPr>
            <p:spPr>
              <a:xfrm>
                <a:off x="4716360" y="3500280"/>
                <a:ext cx="2160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0"/>
              <p:cNvSpPr txBox="1"/>
              <p:nvPr/>
            </p:nvSpPr>
            <p:spPr>
              <a:xfrm>
                <a:off x="4716360" y="3860640"/>
                <a:ext cx="29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1"/>
              <p:cNvSpPr txBox="1"/>
              <p:nvPr/>
            </p:nvSpPr>
            <p:spPr>
              <a:xfrm>
                <a:off x="1187280" y="3933720"/>
                <a:ext cx="30258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8" name="Line 39"/>
          <p:cNvSpPr/>
          <p:nvPr/>
        </p:nvSpPr>
        <p:spPr>
          <a:xfrm flipH="1">
            <a:off x="4500360" y="4437000"/>
            <a:ext cx="38876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1"/>
          <p:cNvSpPr/>
          <p:nvPr/>
        </p:nvSpPr>
        <p:spPr>
          <a:xfrm>
            <a:off x="4716360" y="3500280"/>
            <a:ext cx="0" cy="79236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3"/>
          <p:cNvSpPr/>
          <p:nvPr/>
        </p:nvSpPr>
        <p:spPr>
          <a:xfrm>
            <a:off x="4394160" y="3500280"/>
            <a:ext cx="5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62"/>
              <p:cNvSpPr txBox="1"/>
              <p:nvPr/>
            </p:nvSpPr>
            <p:spPr>
              <a:xfrm>
                <a:off x="4140360" y="4437000"/>
                <a:ext cx="4176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3"/>
              <p:cNvSpPr txBox="1"/>
              <p:nvPr/>
            </p:nvSpPr>
            <p:spPr>
              <a:xfrm>
                <a:off x="1908000" y="4869000"/>
                <a:ext cx="6491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4"/>
              <p:cNvSpPr txBox="1"/>
              <p:nvPr/>
            </p:nvSpPr>
            <p:spPr>
              <a:xfrm>
                <a:off x="2484360" y="5445000"/>
                <a:ext cx="5742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Э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ток</m:t>
                        </m:r>
                      </m:e>
                    </m:acc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́лиз — физико-химический процесс, состоящий в выделении на электродах составных частей растворённых веществ или других веществ, являющихся результатом вторичных реакций на электродах, которое возникает при прохождении электрического тока через раствор либо расплав электро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3940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427640" y="198900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Схема 1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899172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Скругленный прямоугольник 1"/>
          <p:cNvSpPr/>
          <p:nvPr/>
        </p:nvSpPr>
        <p:spPr>
          <a:xfrm>
            <a:off x="611280" y="981000"/>
            <a:ext cx="7921440" cy="5184720"/>
          </a:xfrm>
          <a:prstGeom prst="roundRect">
            <a:avLst>
              <a:gd name="adj" fmla="val 3194"/>
            </a:avLst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ласти применения электролиз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664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химической промышленности – получ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огенов, щелоч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таллургия – получают металлы, в том числе щелочные и щелочно-земельные электролизом расплавов 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ообрабатывающая промышленность – гальваностегия – нанесение металлических покрытий на изделия в декоративных целях, в целях защиты от коррозии (хромирование, никелирование, золочение, серебрени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опластика – снятие копий с изделий (скульптуры, грампластинки, рельефные рисунки). Внедрил Б. С. Якоби, под руководством которого таким образом изготовили украшения фронтона Большого театра, Исаакиевского Собора, Эрмит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истка металлов – рафинирование (очист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, Pb, Cu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электрохимическим мет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-14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8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2835360" y="368784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4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5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3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4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5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6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7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8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9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0"/>
              <p:cNvSpPr txBox="1"/>
              <p:nvPr/>
            </p:nvSpPr>
            <p:spPr>
              <a:xfrm>
                <a:off x="4368960" y="3830760"/>
                <a:ext cx="550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1"/>
              <p:cNvSpPr txBox="1"/>
              <p:nvPr/>
            </p:nvSpPr>
            <p:spPr>
              <a:xfrm>
                <a:off x="3851280" y="364500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Line 69"/>
          <p:cNvSpPr/>
          <p:nvPr/>
        </p:nvSpPr>
        <p:spPr>
          <a:xfrm flipH="1">
            <a:off x="3733560" y="3683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4"/>
          <p:cNvGrpSpPr/>
          <p:nvPr/>
        </p:nvGrpSpPr>
        <p:grpSpPr>
          <a:xfrm>
            <a:off x="4788000" y="3860640"/>
            <a:ext cx="144360" cy="144720"/>
            <a:chOff x="4788000" y="3860640"/>
            <a:chExt cx="144360" cy="144720"/>
          </a:xfrm>
        </p:grpSpPr>
        <p:sp>
          <p:nvSpPr>
            <p:cNvPr id="163" name="Line 71"/>
            <p:cNvSpPr/>
            <p:nvPr/>
          </p:nvSpPr>
          <p:spPr>
            <a:xfrm>
              <a:off x="4788000" y="3933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3"/>
            <p:cNvSpPr/>
            <p:nvPr/>
          </p:nvSpPr>
          <p:spPr>
            <a:xfrm>
              <a:off x="4871880" y="3860640"/>
              <a:ext cx="0" cy="1447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81"/>
          <p:cNvGrpSpPr/>
          <p:nvPr/>
        </p:nvGrpSpPr>
        <p:grpSpPr>
          <a:xfrm>
            <a:off x="5796000" y="4581360"/>
            <a:ext cx="647640" cy="648000"/>
            <a:chOff x="5796000" y="4581360"/>
            <a:chExt cx="647640" cy="648000"/>
          </a:xfrm>
        </p:grpSpPr>
        <p:sp>
          <p:nvSpPr>
            <p:cNvPr id="166" name="Oval 78"/>
            <p:cNvSpPr/>
            <p:nvPr/>
          </p:nvSpPr>
          <p:spPr>
            <a:xfrm>
              <a:off x="5796000" y="458136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0"/>
            <p:cNvSpPr/>
            <p:nvPr/>
          </p:nvSpPr>
          <p:spPr>
            <a:xfrm>
              <a:off x="5869080" y="47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2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487 C -0.01388 -0.04607 -0.02899 -0.08704 -0.04444 -0.08635 C -0.05989 -0.08565 -0.08316 -0.01528 -0.09166 -0.00116 E">
                                      <p:cBhvr>
                                        <p:cTn id="3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39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2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5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0.00371 C -0.01441 0.02431 -0.02865 0.04514 -0.04861 0.03704 C -0.06858 0.02894 -0.10261 0.01274 -0.11945 -0.04444 C -0.13629 -0.10162 -0.15208 -0.2456 -0.15 -0.30555 C -0.14792 -0.36551 -0.11458 -0.37384 -0.10695 -0.4037 C -0.09931 -0.43356 -0.10486 -0.47152 -0.10417 -0.48518 E">
                                      <p:cBhvr>
                                        <p:cTn id="49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0521 -0.4787 L 0.10729 -0.4787 E">
                                      <p:cBhvr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5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57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3472 C 0.03993 -0.06389 0.07205 -0.09305 0.08437 -0.12731 C 0.0967 -0.16157 0.0717 -0.19583 0.08159 -0.24027 C 0.09149 -0.28472 0.14409 -0.32847 0.14409 -0.39398 C 0.14409 -0.45949 0.11284 -0.54629 0.08159 -0.63287 E">
                                      <p:cBhvr>
                                        <p:cTn id="61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плав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ovr3"/>
          <p:cNvPicPr/>
          <p:nvPr/>
        </p:nvPicPr>
        <p:blipFill>
          <a:blip r:embed="rId1"/>
          <a:stretch/>
        </p:blipFill>
        <p:spPr>
          <a:xfrm>
            <a:off x="0" y="1676520"/>
            <a:ext cx="8991720" cy="4035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творов с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ovr5"/>
          <p:cNvPicPr/>
          <p:nvPr/>
        </p:nvPicPr>
        <p:blipFill>
          <a:blip r:embed="rId1"/>
          <a:stretch/>
        </p:blipFill>
        <p:spPr>
          <a:xfrm>
            <a:off x="228600" y="2438280"/>
            <a:ext cx="777240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2"/>
              <p:cNvSpPr txBox="1"/>
              <p:nvPr/>
            </p:nvSpPr>
            <p:spPr>
              <a:xfrm>
                <a:off x="6566040" y="2598840"/>
                <a:ext cx="20448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3"/>
              <p:cNvSpPr txBox="1"/>
              <p:nvPr/>
            </p:nvSpPr>
            <p:spPr>
              <a:xfrm>
                <a:off x="4659480" y="1852560"/>
                <a:ext cx="631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771640" y="335772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2654280" y="44038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4"/>
              <p:cNvSpPr txBox="1"/>
              <p:nvPr/>
            </p:nvSpPr>
            <p:spPr>
              <a:xfrm>
                <a:off x="3708360" y="328464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Line 50"/>
          <p:cNvSpPr/>
          <p:nvPr/>
        </p:nvSpPr>
        <p:spPr>
          <a:xfrm flipH="1">
            <a:off x="3622320" y="33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5"/>
              <p:cNvSpPr txBox="1"/>
              <p:nvPr/>
            </p:nvSpPr>
            <p:spPr>
              <a:xfrm>
                <a:off x="5216400" y="4653000"/>
                <a:ext cx="648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6"/>
              <p:cNvSpPr txBox="1"/>
              <p:nvPr/>
            </p:nvSpPr>
            <p:spPr>
              <a:xfrm>
                <a:off x="3564000" y="436572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67"/>
          <p:cNvSpPr/>
          <p:nvPr/>
        </p:nvSpPr>
        <p:spPr>
          <a:xfrm flipH="1">
            <a:off x="349236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7"/>
              <p:cNvSpPr txBox="1"/>
              <p:nvPr/>
            </p:nvSpPr>
            <p:spPr>
              <a:xfrm>
                <a:off x="5435640" y="220500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Group 72"/>
          <p:cNvGrpSpPr/>
          <p:nvPr/>
        </p:nvGrpSpPr>
        <p:grpSpPr>
          <a:xfrm>
            <a:off x="5724360" y="2205000"/>
            <a:ext cx="144720" cy="169920"/>
            <a:chOff x="5724360" y="2205000"/>
            <a:chExt cx="144720" cy="169920"/>
          </a:xfrm>
        </p:grpSpPr>
        <p:sp>
          <p:nvSpPr>
            <p:cNvPr id="230" name="Line 70"/>
            <p:cNvSpPr/>
            <p:nvPr/>
          </p:nvSpPr>
          <p:spPr>
            <a:xfrm flipH="1">
              <a:off x="5724360" y="227808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1"/>
            <p:cNvSpPr/>
            <p:nvPr/>
          </p:nvSpPr>
          <p:spPr>
            <a:xfrm>
              <a:off x="5805360" y="220500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5435640" y="530064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Group 74"/>
          <p:cNvGrpSpPr/>
          <p:nvPr/>
        </p:nvGrpSpPr>
        <p:grpSpPr>
          <a:xfrm>
            <a:off x="5724360" y="5300640"/>
            <a:ext cx="144720" cy="169920"/>
            <a:chOff x="5724360" y="5300640"/>
            <a:chExt cx="144720" cy="169920"/>
          </a:xfrm>
        </p:grpSpPr>
        <p:sp>
          <p:nvSpPr>
            <p:cNvPr id="234" name="Line 75"/>
            <p:cNvSpPr/>
            <p:nvPr/>
          </p:nvSpPr>
          <p:spPr>
            <a:xfrm flipH="1">
              <a:off x="5724360" y="537372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>
              <a:off x="5805360" y="530064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9"/>
              <p:cNvSpPr txBox="1"/>
              <p:nvPr/>
            </p:nvSpPr>
            <p:spPr>
              <a:xfrm>
                <a:off x="5219640" y="2852640"/>
                <a:ext cx="72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90"/>
              <p:cNvSpPr txBox="1"/>
              <p:nvPr/>
            </p:nvSpPr>
            <p:spPr>
              <a:xfrm>
                <a:off x="5173560" y="4017960"/>
                <a:ext cx="719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1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2"/>
              <p:cNvSpPr txBox="1"/>
              <p:nvPr/>
            </p:nvSpPr>
            <p:spPr>
              <a:xfrm>
                <a:off x="5724360" y="4797360"/>
                <a:ext cx="432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2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1551 C -0.01389 -0.05671 -0.02899 -0.09769 -0.04444 -0.09699 C -0.0599 -0.0963 -0.08316 -0.02593 -0.09167 -0.01181 E">
                                      <p:cBhvr>
                                        <p:cTn id="118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21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44444E-006 C 0.02031 -0.00231 0.04114 -0.00439 0.05104 -4.44444E-006 C 0.06094 0.0044 0.05521 0.01505 0.05972 0.02593 C 0.06441 0.03681 0.06857 0.05834 0.07917 0.06482 C 0.08976 0.0713 0.11111 0.06505 0.12309 0.06482 C 0.13524 0.06459 0.1467 0.0632 0.15139 0.06297 E">
                                      <p:cBhvr>
                                        <p:cTn id="124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-1.85185E-006 C 0.00486 0.02639 0.01007 0.05278 0.01667 0.06296 C 0.02361 0.07338 0.03247 0.06435 0.03959 0.06111 C 0.0467 0.05764 0.05313 0.05 0.05955 0.04259 E">
                                      <p:cBhvr>
                                        <p:cTn id="127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1007 0.00741 -0.02014 0.01505 -0.02639 0.01112 C -0.03264 0.00718 -0.03507 -0.00856 -0.0375 -0.02407 E">
                                      <p:cBhvr>
                                        <p:cTn id="131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133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13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6.2963E-006 C -0.0052 -0.00462 -0.01041 -0.00902 -0.01666 -0.01666 C -0.02291 -0.0243 -0.02708 -0.04536 -0.03749 -0.04629 C -0.04791 -0.04722 -0.06354 -0.03472 -0.07916 -0.02222 E">
                                      <p:cBhvr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C -0.00208 0.02847 -0.00399 0.05717 -0.01389 0.06296 C -0.02378 0.06875 -0.04184 0.05185 -0.05972 0.03518 E">
                                      <p:cBhvr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C 0.03004 -0.03148 0.06025 -0.06273 0.07188 -0.09931 C 0.08351 -0.13611 0.0599 -0.17269 0.06928 -0.22037 C 0.07848 -0.26806 0.1283 -0.31482 0.1283 -0.38495 C 0.1283 -0.45509 0.09879 -0.54792 0.06928 -0.64051 E">
                                      <p:cBhvr>
                                        <p:cTn id="172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69 C -0.0085 0.00856 -0.01701 0.01666 -0.03142 0.01296 C -0.04583 0.00949 -0.06632 -0.00533 -0.08663 -0.02014 E">
                                      <p:cBhvr>
                                        <p:cTn id="17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0.01041 C -0.01996 0.01875 -0.04045 0.02731 -0.05937 0.02523 C -0.07812 0.02337 -0.09548 0.01111 -0.11284 -0.00093 E">
                                      <p:cBhvr>
                                        <p:cTn id="17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C -0.00174 -0.0574 -0.00347 -0.11458 -0.01667 -0.15926 C -0.02986 -0.20393 -0.07309 -0.21944 -0.07917 -0.26851 C -0.08524 -0.31759 -0.0691 -0.38564 -0.05278 -0.4537 E">
                                      <p:cBhvr>
                                        <p:cTn id="181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8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0.01065 C 0.59479 0.04537 0.61493 0.08032 0.61372 0.1125 C 0.6125 0.14467 0.58386 0.16319 0.56788 0.20324 C 0.55191 0.24328 0.5316 0.30625 0.51788 0.35324 C 0.50417 0.40023 0.49288 0.45717 0.48594 0.48472 C 0.47899 0.51227 0.47761 0.51504 0.47622 0.51805 E">
                                      <p:cBhvr>
                                        <p:cTn id="18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C 0.00278 -0.00047 0.00556 -0.0007 -0.00833 0.00555 C -0.02222 0.0118 -0.0625 0.07801 -0.08333 0.03703 C -0.10416 -0.00394 -0.13073 -0.17523 -0.13333 -0.24074 C -0.13594 -0.30625 -0.10434 -0.33634 -0.09861 -0.35556 E">
                                      <p:cBhvr>
                                        <p:cTn id="187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61 -0.35556 L -0.09861 -0.42894 E">
                                      <p:cBhvr>
                                        <p:cTn id="19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056 L 0.11424 -0.43056 E">
                                      <p:cBhvr>
                                        <p:cTn id="193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лиз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ovr4"/>
          <p:cNvPicPr/>
          <p:nvPr/>
        </p:nvPicPr>
        <p:blipFill>
          <a:blip r:embed="rId1"/>
          <a:stretch/>
        </p:blipFill>
        <p:spPr>
          <a:xfrm>
            <a:off x="533520" y="2133720"/>
            <a:ext cx="6553080" cy="336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85840" y="928800"/>
            <a:ext cx="82087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m вещества, выделившегося на электроде, прямо пропорциональна заряду Q, прошедшему через электр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 = kQ = 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закон электро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у k 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ктрохимическим эквивал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 Фарадея показали, что масса выделившегося при электролизе вещества зависит не только от величины заряда, но и от рода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Закон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3"/>
          <a:stretch/>
        </p:blipFill>
        <p:spPr>
          <a:xfrm>
            <a:off x="571680" y="3573360"/>
            <a:ext cx="7572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Admin</cp:lastModifiedBy>
  <dcterms:modified xsi:type="dcterms:W3CDTF">2012-12-19T09:36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